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9F5-2DBB-4894-BC34-05477C79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963-84C2-43DE-8580-74FC35B4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823-CE1F-45D9-B977-9E4BC719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668-0ABF-40B4-96A1-0BCDE142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E8B-A7EC-40A6-9FAC-2EDD05BF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A79-21AC-41DC-929D-EAA7026F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313-D0E7-4E13-A6E9-BBD994A6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289-AECE-4059-B448-30320C93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93E-6021-4CD8-AEC2-8FBEDFA7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A0F-0A96-4EF1-B474-F982BCE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CA2-0142-46BF-BF82-FA9E736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F83-B607-494F-ACC0-D2484E7E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999-6A2F-4C9D-A7A5-95585F1A040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Rock Types And Classific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gne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gneous rock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fire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originate from the magma in the mantle of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rusive igneous rocks are formed by being thrown out during a volcanic eru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ol very quickly once they reach the surf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xample of an extrusive igneous rock i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asal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usive igneous rocks are formed under the surface of the earth, cooling very slowly to form a large area of rock under the surface of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xample of an intrusive igneous rock i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ani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gneous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ciencealtavista.files.wordpress.com/2010/02/geology-igneous-rocks1.jpg"/>
          <p:cNvPicPr/>
          <p:nvPr/>
        </p:nvPicPr>
        <p:blipFill>
          <a:blip r:embed="rId1"/>
          <a:stretch/>
        </p:blipFill>
        <p:spPr>
          <a:xfrm>
            <a:off x="193680" y="1557360"/>
            <a:ext cx="87948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millions of years the actions of rivers, glaciers and the wind produce large amounts of small particles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d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ccumulated on sea floors in layers, and due to the pressure of material above they were compressed to form r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ary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t1.gstatic.com/images?q=tbn:ANd9GcS4P_FKnjuWy_6Lo7_greKz8hI43TSvYRoGOe5K_mojJ7BF1B8g&amp;t=1"/>
          <p:cNvPicPr/>
          <p:nvPr/>
        </p:nvPicPr>
        <p:blipFill>
          <a:blip r:embed="rId1"/>
          <a:stretch/>
        </p:blipFill>
        <p:spPr>
          <a:xfrm>
            <a:off x="1879560" y="1197000"/>
            <a:ext cx="53294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ary Rock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ndst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is made from compressed s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y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is made from compressed m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al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is made from the compressed remains of ancient for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l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mestone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is made from the compressed remains of plants and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s which have been changed in shape or form, usually by heat or pressure,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morphic r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gin as either igneous or sedimentary rocks before being changed, usually in areas of high pressure and intense heat, such as plate marg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ich used to be clay)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ich used to be limesto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tamorphic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nps.gov/features/yell/slidefile/geology/metamorphic/Images/17034.jpg"/>
          <p:cNvPicPr/>
          <p:nvPr/>
        </p:nvPicPr>
        <p:blipFill>
          <a:blip r:embed="rId1"/>
          <a:stretch/>
        </p:blipFill>
        <p:spPr>
          <a:xfrm>
            <a:off x="592200" y="1268280"/>
            <a:ext cx="8064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geolsoc.org.uk/webdav/site/GSL/shared/images/education_and_careers/RockCycle/Rock%20Cycle%20all%20labels.jpg"/>
          <p:cNvPicPr/>
          <p:nvPr/>
        </p:nvPicPr>
        <p:blipFill>
          <a:blip r:embed="rId1"/>
          <a:stretch/>
        </p:blipFill>
        <p:spPr>
          <a:xfrm>
            <a:off x="1042920" y="1171440"/>
            <a:ext cx="703728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30:18Z</dcterms:created>
  <dc:creator>Dell_02</dc:creator>
  <dc:description/>
  <dc:language>en-US</dc:language>
  <cp:lastModifiedBy>Dell_02</cp:lastModifiedBy>
  <dcterms:modified xsi:type="dcterms:W3CDTF">2011-01-26T03:49:56Z</dcterms:modified>
  <cp:revision>2</cp:revision>
  <dc:subject/>
  <dc:title>Rock Types And Classifications</dc:title>
</cp:coreProperties>
</file>